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E03-38BE-4979-9C5E-F6B6F774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5F31-9A99-41DD-B693-13A4E792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601-E9C6-4E7B-B59E-30F2D0A9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22D-1AC5-422A-A37C-9283926F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D10-EE4B-41B2-AD68-5319B7AB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630-BD24-4BC3-BE33-9776F17C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846-0773-4C42-8BDC-37694370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62F-0667-4F8D-B3DA-A7680901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7699-BFBC-4F82-BEC5-8AEE9233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BFC-FE04-4A25-991F-B04E7101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91B-A4DC-4A48-B3B1-681B25D8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233E-E085-4C7C-A35B-35106DC2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CC11-6BED-4E4B-94C2-1D04240CB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55600" y="255600"/>
          <a:ext cx="8634240" cy="634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255600"/>
                    <a:ext cx="863424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1:59:44Z</dcterms:created>
  <dc:creator>peter congdon</dc:creator>
  <dc:description/>
  <dc:language>en-US</dc:language>
  <cp:lastModifiedBy>peter congdon</cp:lastModifiedBy>
  <dcterms:modified xsi:type="dcterms:W3CDTF">2007-04-21T12:00:05Z</dcterms:modified>
  <cp:revision>1</cp:revision>
  <dc:subject/>
  <dc:title>Slide 1</dc:title>
</cp:coreProperties>
</file>