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FCDD-3C1D-425D-8968-F3E6D4A6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7931-439E-4724-B96F-80C4DF9D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7E7A-6683-48AB-AE5C-2216910C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F5BC-0AF1-4C98-8384-90D7B0A7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5F96-A1BE-44D6-8C09-A666E58F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D4FA-8BAA-40FC-9BF5-531D046A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5646-C0BF-4F56-9DEC-7BF538C6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63E2-D44B-4C75-902D-27AD0009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7ECA-9FDC-49C7-8A8C-B47D0CC1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0DFE-38AA-4C68-890D-983B9EE5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50EB-799D-459A-A983-0959068D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EAB0-977C-4E8C-A5A5-7920A72A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9D1A-E890-4159-AD97-1AEEE6FDA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484360" y="674640"/>
          <a:ext cx="5915160" cy="6183360"/>
        </p:xfrm>
        <a:graphic>
          <a:graphicData uri="http://schemas.openxmlformats.org/drawingml/2006/table">
            <a:tbl>
              <a:tblPr/>
              <a:tblGrid>
                <a:gridCol w="471600"/>
                <a:gridCol w="714240"/>
                <a:gridCol w="712800"/>
                <a:gridCol w="712800"/>
                <a:gridCol w="714240"/>
                <a:gridCol w="2589480"/>
              </a:tblGrid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 dev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C st. err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57200" y="549360"/>
          <a:ext cx="8229600" cy="6850080"/>
        </p:xfrm>
        <a:graphic>
          <a:graphicData uri="http://schemas.openxmlformats.org/drawingml/2006/table">
            <a:tbl>
              <a:tblPr/>
              <a:tblGrid>
                <a:gridCol w="961920"/>
                <a:gridCol w="1454400"/>
                <a:gridCol w="1452240"/>
                <a:gridCol w="1454400"/>
                <a:gridCol w="1452600"/>
                <a:gridCol w="1454040"/>
              </a:tblGrid>
              <a:tr h="756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 dev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C st. err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39640" y="1052640"/>
          <a:ext cx="8229600" cy="4657680"/>
        </p:xfrm>
        <a:graphic>
          <a:graphicData uri="http://schemas.openxmlformats.org/drawingml/2006/table">
            <a:tbl>
              <a:tblPr/>
              <a:tblGrid>
                <a:gridCol w="961920"/>
                <a:gridCol w="1454040"/>
                <a:gridCol w="1452600"/>
                <a:gridCol w="1454400"/>
                <a:gridCol w="1452600"/>
                <a:gridCol w="14540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 dev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C st. err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57200" y="274680"/>
          <a:ext cx="8229240" cy="5851080"/>
        </p:xfrm>
        <a:graphic>
          <a:graphicData uri="http://schemas.openxmlformats.org/drawingml/2006/table">
            <a:tbl>
              <a:tblPr/>
              <a:tblGrid>
                <a:gridCol w="678600"/>
                <a:gridCol w="1053360"/>
                <a:gridCol w="1680840"/>
                <a:gridCol w="1681200"/>
                <a:gridCol w="1681200"/>
                <a:gridCol w="1454040"/>
              </a:tblGrid>
              <a:tr h="5821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7.3 Political and Economic Risk Factor Mod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 dev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C st. err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0:22:01Z</dcterms:created>
  <dc:creator>peter congdon</dc:creator>
  <dc:description/>
  <dc:language>en-US</dc:language>
  <cp:lastModifiedBy>peter congdon</cp:lastModifiedBy>
  <dcterms:modified xsi:type="dcterms:W3CDTF">2007-09-09T12:18:44Z</dcterms:modified>
  <cp:revision>2</cp:revision>
  <dc:subject/>
  <dc:title>Slide 1</dc:title>
</cp:coreProperties>
</file>