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06B-0850-4694-82DC-4E58E3BD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970-B4CE-4D73-9BA2-653DF71B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ED1-8A20-4A49-886C-E1E3882B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B02-6ABD-4226-9EF3-69EC61FA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FA1-5950-46B5-9B1C-329C6C5C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760-02F5-4CBD-87B8-76BF7C47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C6B-7287-480D-B726-4085273C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1C5-A53F-4448-9993-C2E069BB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5F6-B07F-4CD2-8671-163F2BCE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A2E-4881-4CA0-85BF-17ACDE28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9C6-706C-4EAA-8049-B226518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1FB-CE7C-462F-9386-1848AE08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B1F6-8E7B-4316-B961-442D83475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40000" y="2060640"/>
          <a:ext cx="4038480" cy="165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0384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340000" y="4076640"/>
          <a:ext cx="4038480" cy="194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076640"/>
                    <a:ext cx="40384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268360" y="189000"/>
          <a:ext cx="4038840" cy="1703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189000"/>
                    <a:ext cx="403884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959120" y="6113520"/>
            <a:ext cx="49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.1 Birmingham Mortality DG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685880" y="2109960"/>
          <a:ext cx="5772240" cy="26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2109960"/>
                    <a:ext cx="5772240" cy="26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4:52:24Z</dcterms:created>
  <dc:creator>peter congdon</dc:creator>
  <dc:description/>
  <dc:language>en-US</dc:language>
  <cp:lastModifiedBy>peter congdon</cp:lastModifiedBy>
  <dcterms:modified xsi:type="dcterms:W3CDTF">2007-02-07T15:30:57Z</dcterms:modified>
  <cp:revision>7</cp:revision>
  <dc:subject/>
  <dc:title>Slide 1</dc:title>
</cp:coreProperties>
</file>