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8C2-E73C-450C-970A-A2E01579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723-6C91-4A07-AE61-1FB2BC4E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9DB-E4EE-4D0D-B697-960F7BB1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46B-468A-4EA8-B716-DC5137C0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750-6633-46CC-A843-0F896C09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3B2-C463-4A04-8BC8-2189C33E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AA0-0048-4817-8CC7-F66B4AC2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60C-1586-4EAC-8F99-8856AFF3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38B-C33C-4712-804E-0062531B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D31-9E7C-457A-8D66-4BA28A3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D81-70D3-4EAD-B4D5-1FF49D12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68D-0974-4C02-928A-F4CEE713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3720-F22F-47FA-8D49-E0EA6367C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50880" y="1341360"/>
          <a:ext cx="6765840" cy="3912840"/>
        </p:xfrm>
        <a:graphic>
          <a:graphicData uri="http://schemas.openxmlformats.org/drawingml/2006/table">
            <a:tbl>
              <a:tblPr/>
              <a:tblGrid>
                <a:gridCol w="1784160"/>
                <a:gridCol w="545760"/>
                <a:gridCol w="510840"/>
                <a:gridCol w="512280"/>
                <a:gridCol w="512280"/>
                <a:gridCol w="512640"/>
                <a:gridCol w="512640"/>
                <a:gridCol w="510480"/>
                <a:gridCol w="512280"/>
                <a:gridCol w="852480"/>
              </a:tblGrid>
              <a:tr h="526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9.1 Log-logistic model paramete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Log-logist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-logistic with childless frac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-logistic with childless fraction and frail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icto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s of educa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sibling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migr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7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income at age 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ing in city at age 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al age (typical individu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-logistic shape paramet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rtion Childl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ilty Standard Devia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0:04:12Z</dcterms:created>
  <dc:creator>peter congdon</dc:creator>
  <dc:description/>
  <dc:language>en-US</dc:language>
  <cp:lastModifiedBy>peter congdon</cp:lastModifiedBy>
  <dcterms:modified xsi:type="dcterms:W3CDTF">2007-04-02T14:04:19Z</dcterms:modified>
  <cp:revision>2</cp:revision>
  <dc:subject/>
  <dc:title>Slide 1</dc:title>
</cp:coreProperties>
</file>