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B15-0C63-43E8-AB57-1132BDF2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9B8-B3A5-4548-80CD-0902B01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9A1-6C5D-4A63-B4DF-889ED300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9E6-7FE0-47F4-BD71-05702E3A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547-FC3F-4971-8473-B5F61E4C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599-4D4C-4BD2-8F12-F10C89C1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BEB-E59D-4315-8E68-8D915F6A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1C3-D753-46A3-911B-C09C6EF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7E3-1F3F-42F1-85D6-35FF2E9B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970-F4BF-4928-988B-8FEE446B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E41-EA30-495C-AA14-AE3232E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379-B44D-403D-8B25-0FF50691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30FF-7947-4BC7-9F3F-F9B5837B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27640" y="1125360"/>
          <a:ext cx="4537080" cy="23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125360"/>
                    <a:ext cx="4537080" cy="23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0920" y="3716280"/>
          <a:ext cx="4032000" cy="23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0320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79280" y="1125360"/>
          <a:ext cx="4103640" cy="2374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125360"/>
                    <a:ext cx="41036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340000" y="1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.1 Air Passenger B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32240" y="3716280"/>
          <a:ext cx="4811760" cy="2376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32240" y="3716280"/>
                    <a:ext cx="481176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85880" y="2109960"/>
          <a:ext cx="5772240" cy="26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2109960"/>
                    <a:ext cx="5772240" cy="26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52:24Z</dcterms:created>
  <dc:creator>peter congdon</dc:creator>
  <dc:description/>
  <dc:language>en-US</dc:language>
  <cp:lastModifiedBy>peter congdon</cp:lastModifiedBy>
  <dcterms:modified xsi:type="dcterms:W3CDTF">2007-02-08T20:05:04Z</dcterms:modified>
  <cp:revision>9</cp:revision>
  <dc:subject/>
  <dc:title>Slide 1</dc:title>
</cp:coreProperties>
</file>