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A27C-531F-4338-9523-5D3441B06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54A8-9FAA-4862-8662-385605E92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5E73-886C-438F-9C18-EFB75A98B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D59D-9BF9-406B-9E45-EF2AF4F6F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171A-7751-4703-9E9D-6301580A1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4F84-695C-44F0-BB7E-C4A70B4D2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D818-35AB-4D41-B028-3FA3132F3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0E96-3319-4079-A73E-67F6F070F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F374-638E-4AB7-AD96-E71114A0B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B0EF-6AFC-4B51-A051-FE703ED01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81D4-AD50-411A-BA02-2C1A20584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58A9-B616-437A-9E58-F635A3D86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B37AD-3A3A-4F0F-86C2-BDCB065B4E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3880" y="1395360"/>
          <a:ext cx="609624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95360"/>
                    <a:ext cx="609624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2195640" y="1052640"/>
          <a:ext cx="4968360" cy="4101480"/>
        </p:xfrm>
        <a:graphic>
          <a:graphicData uri="http://schemas.openxmlformats.org/drawingml/2006/table">
            <a:tbl>
              <a:tblPr/>
              <a:tblGrid>
                <a:gridCol w="953280"/>
                <a:gridCol w="871560"/>
                <a:gridCol w="872280"/>
                <a:gridCol w="1135440"/>
                <a:gridCol w="1135800"/>
              </a:tblGrid>
              <a:tr h="28872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4.1 Treated schizophrenia by age &amp; sex 19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5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pul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-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35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77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-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8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4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-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7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1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-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6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7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-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49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8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-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2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5-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1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3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-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7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6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8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48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79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7T15:23:44Z</dcterms:created>
  <dc:creator>peter congdon</dc:creator>
  <dc:description/>
  <dc:language>en-US</dc:language>
  <cp:lastModifiedBy>peter congdon</cp:lastModifiedBy>
  <dcterms:modified xsi:type="dcterms:W3CDTF">2007-02-07T15:37:47Z</dcterms:modified>
  <cp:revision>2</cp:revision>
  <dc:subject/>
  <dc:title>Slide 1</dc:title>
</cp:coreProperties>
</file>