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96A-C615-4AE8-B41D-56CC75E0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767-9E93-49A4-AF36-EECC30FF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292-B597-486B-9C23-A50FD7AE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6FE-3AA6-48AF-BE6E-A8AD52B5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A1D-9719-42A8-9761-0AEB3105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43D-A11A-450F-8B5A-6783D5C5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025-0290-42CF-BCE2-D52F573E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2CB-0928-40FA-97BA-5B7143EB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7A0-BE7B-42DB-9C55-DD3F6D6C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A16-F0A0-4A75-A0FE-A4972BF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854-11A6-478C-8C09-FD3F5B41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34C-2CB5-413D-8D59-39B0A61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62C4-EF80-4F67-9978-85DFCB2BD7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82800" y="3573360"/>
            <a:ext cx="3008160" cy="2187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57720" y="3573360"/>
            <a:ext cx="3008520" cy="2187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59520" y="1052640"/>
            <a:ext cx="300672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84240" y="1052640"/>
            <a:ext cx="3006720" cy="218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20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7.1 Residual Plots, DPP Mixtur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0:22:01Z</dcterms:created>
  <dc:creator>peter congdon</dc:creator>
  <dc:description/>
  <dc:language>en-US</dc:language>
  <cp:lastModifiedBy>peter congdon</cp:lastModifiedBy>
  <dcterms:modified xsi:type="dcterms:W3CDTF">2007-09-09T12:25:55Z</dcterms:modified>
  <cp:revision>6</cp:revision>
  <dc:subject/>
  <dc:title>Slide 1</dc:title>
</cp:coreProperties>
</file>